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4.wmf" ContentType="image/x-wmf"/>
  <Override PartName="/ppt/media/image2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B73-2683-4750-AB55-E7F13B73E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071-3799-4868-9C09-BD75300D5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250-9789-43B0-901F-80082606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9D2-3F96-40C9-91EF-BF6878D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648-5207-4216-85D5-614AD9E1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24A-9264-4844-AF81-4277221A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D276-2C5D-4472-BD26-D6348FB1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F2C-A269-4A79-8571-9D8D29D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0112-5D5C-48D8-87B1-C8972FDB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7D87-CB84-401A-A7EA-CA2F60DA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5317-67D3-4CCE-8C19-48FEBD0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42B2-1B5B-4167-ADDA-DEA5359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FE28-38E7-4E54-8B5D-732B5C9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A77-FE1A-498A-8B8D-60D6A58D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25BF-874E-491F-AB2B-6120B4C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1EBD-C75E-48BC-8400-68EB33C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7C59-6645-4824-97AB-4209BB5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51FB-A6B2-46F9-89F0-1AD947FE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B035-165E-4A3F-8B84-6AB7F552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5723-2F95-4676-A138-57A9B9A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D7C1-0C4C-4C7C-A07D-5297971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9F9D-C813-4978-88DF-945DD93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D000-0475-445F-93FA-0878118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040C-405A-411D-A71A-201BD85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816-B77D-4695-8A4F-36F833A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5D6A-D60C-44B7-ACEC-074BFD2C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47CC-906C-417F-82C3-7EACBAA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138D-6E3F-43D4-98AD-8ADB661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6219-8FD3-4FFA-97F6-16D1145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91D2-34BD-4C49-AC28-2E2CFF4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3C0A-F0A4-440D-A85C-58FB84D6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B0FB-A673-416B-932D-8993150C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C35A-0830-489C-A1F2-9FB5A022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D231-D4B6-4C7B-BDEC-17255DB4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0D7A-F8D5-4FC8-9A44-4A2F92B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44B-C69C-495D-9B23-173232E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8E6D-F6BA-4AC1-85B7-0A5178D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EB8C-8F76-4E1B-A274-C604D6B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0764-2259-4021-9AF3-46D6894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909D-EDBD-414B-816D-3A15B52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F510-89FC-4FD6-BF0F-404F3C6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C9A1-07B9-41A4-8B56-A26FDA8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4981-8133-43B9-8ABA-0BF6E94D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72EC-D265-4F4A-96E7-AD07A96D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F5BD-38E7-4C4E-853D-E4C2ED9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7490-187E-48CD-81F4-69CA26B8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9B7-9878-48B9-AF4B-6EF1107D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5CEA-5A6B-4B26-87C0-6C055F9F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88D5-88F8-4572-9F2A-856D4B0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3EEB-2286-4E55-A241-C90E900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12AF-0757-45B3-A2DF-A8A409CD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96FE-D61D-440B-AFF3-1A95202F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61B2-7616-4E29-8BA4-203C134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2658-F097-4E3A-9EB1-B499264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4131-24BB-4F17-8463-1488DA3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5D613-29D8-467D-85B0-91A2432C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4F7E-6E9E-40E5-B263-37C6FE8D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5D4-FA45-4CD0-ACF6-97FB02A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2B90-179F-4ED7-A6B3-1FCF8BDC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5D8A-815A-4C33-80DB-C87DE270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ADE2-F46A-47D8-8D83-2B0336E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2F306-4A00-4038-849E-9B49DEEB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4BA6-2CDA-4AE1-AB9F-0CC78B6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A4C4-B537-4D69-821D-52B9110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BB1D-5767-4C81-964B-4233062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4C764-E8C7-4978-9908-5D85671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965F9-FB37-4A2C-84FA-22FAE2F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C91E-0368-469A-8606-D045DBC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BCD-B19F-40F6-8EA1-532A09E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08D0-C15C-4BE0-9E26-D891101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B4BC2-303B-4662-81DB-A28CF8F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D38F-B57A-45CF-96F9-B782228A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DD57-0C9F-4E95-9C7A-F41CD587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7C5F-9910-4CF4-9F56-34F088E3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8523-1490-4648-9D1F-134523C9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31BC-BBA4-44DD-AA1E-637D0E6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7455-2A89-4471-BBC9-B8005BA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F563-43AD-4BC3-9284-08FD5CF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C0FE-4990-4000-9C4F-C68DAEB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099-1D62-4ABB-8B6B-D5441A88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2FC2D-5227-4A60-8AAA-D0C7BFA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15B36-E2AD-4CAE-81DE-8BCC4C6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3103-4147-4970-B47D-8E6B3EE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6295-71D3-4613-9B8E-2A4835BC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93DD-C716-4C4D-B98B-BF4EC627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7312-97B7-4598-A9D6-725744EC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5AA9-9D43-4A1C-AAD5-B0C8768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F61F-E80D-4CDC-B356-1F87833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187F-8755-4F2F-B92B-234A3B5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1FF7C-FECF-41C4-973D-60EAD30F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47F-9382-49DE-B61F-F690345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61B7-ECDD-469A-A461-EE52140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D906-3D96-466E-AB73-A377132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7061-B83F-4A6A-A0A8-271688E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65E5-4530-45BD-9C72-53C60933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8B6DC-77DA-41D0-9548-B4F8DD3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0020-9B42-49B5-954D-A7A7FD92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33E82-1ACA-44C1-BDB2-569887EB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640E-9425-4AD8-B9C4-CCD2034029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FF25-48C3-42FF-8F89-93530245F9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6C4D-170F-48A7-B255-409F772EC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228B-B2C9-4CA1-B835-8CB8A0A496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401-3E17-45BA-9BD7-BC48792725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E18-69C6-4B41-B4BD-3EF072AB55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68C-F8A6-42A2-AAF3-4C64AE91A6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7512-5F97-435E-8547-A8794D721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a.org/" TargetMode="External"/><Relationship Id="rId2" Type="http://schemas.openxmlformats.org/officeDocument/2006/relationships/hyperlink" Target="http://www.dese.mo.gov/" TargetMode="External"/><Relationship Id="rId3" Type="http://schemas.openxmlformats.org/officeDocument/2006/relationships/hyperlink" Target="http://www.dol.gov/" TargetMode="External"/><Relationship Id="rId4" Type="http://schemas.openxmlformats.org/officeDocument/2006/relationships/hyperlink" Target="http://www.cdc.gov/" TargetMode="External"/><Relationship Id="rId5" Type="http://schemas.openxmlformats.org/officeDocument/2006/relationships/hyperlink" Target="http://www.schoolmatters.org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bd04941_"/>
          <p:cNvPicPr/>
          <p:nvPr/>
        </p:nvPicPr>
        <p:blipFill>
          <a:blip r:embed="rId1"/>
          <a:stretch/>
        </p:blipFill>
        <p:spPr>
          <a:xfrm>
            <a:off x="2514600" y="3886200"/>
            <a:ext cx="3851280" cy="235584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682560" y="884160"/>
            <a:ext cx="8272440" cy="156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7b8a"/>
                </a:solidFill>
                <a:latin typeface="Comic Sans MS"/>
              </a:rPr>
              <a:t>Shift Happe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7b8a"/>
                </a:solidFill>
                <a:latin typeface="Comic Sans MS"/>
              </a:rPr>
              <a:t>So Get into Gear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828440"/>
            <a:ext cx="5410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ocietal changes drive curricul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abor Market Data shows career dema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MCj02379820000[1]"/>
          <p:cNvPicPr/>
          <p:nvPr/>
        </p:nvPicPr>
        <p:blipFill>
          <a:blip r:embed="rId2"/>
          <a:stretch/>
        </p:blipFill>
        <p:spPr>
          <a:xfrm>
            <a:off x="4767120" y="3124080"/>
            <a:ext cx="3530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etiring workforce and serious depletion of skill/talent p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ack of appropriate/adequate skill sets for people entering work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ow do we address the ga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ch Pr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rticulation agreem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chool to 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mbedded Cr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reer Clus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reer Pa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grams of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C:\Program Files\Microsoft Office\MEDIA\CAGCAT10\j0199755.wmf"/>
          <p:cNvPicPr/>
          <p:nvPr/>
        </p:nvPicPr>
        <p:blipFill>
          <a:blip r:embed="rId2"/>
          <a:stretch/>
        </p:blipFill>
        <p:spPr>
          <a:xfrm>
            <a:off x="6095880" y="2286000"/>
            <a:ext cx="1724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undation of a quality curriculum is the combination of rigorous academics and meaningful, career-based learning for all students.  The curriculum must be relevant to the lives of students and prepare them for current and future career opportunit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-Install rigor, relevance, and relationships in the entire secondary curricula by incorporating career connections for greater participation in engaging learning strateg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G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ademic core standards establish rigor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-based Learn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EV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apply knowledge, concepts, and skills to solve real real proble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ical standards are derived from the workpla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aching to the higher order thinking skills establishes relevan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dership skill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ary to Postseconda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al entity to the workpla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world instruction establishes relationship between students and teache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3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eer Clusters framework was designed to respond to the growing demands on employers, employees and educational institutions in today’s globally competitive environ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grams of study requires alignment and coordination among secondary education, two-year and four-year postsecondary institutions, and the local business commun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684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e students for careers related to Family and Consumer Scienc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lance Family and Careers with a focus on the famil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is “helping a group, including a family group, shape a vision of its purpose and goals and encouraging other to commit and recommit to achieving that vision”.  (NASAFACS, 1998, p.1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MCj02313910000[1]"/>
          <p:cNvPicPr/>
          <p:nvPr/>
        </p:nvPicPr>
        <p:blipFill>
          <a:blip r:embed="rId2"/>
          <a:stretch/>
        </p:blipFill>
        <p:spPr>
          <a:xfrm>
            <a:off x="5486400" y="2057400"/>
            <a:ext cx="3162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5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850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women for their profession as wives and moth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estic tasks are women’s work &amp; women needed specific formal training to run their hom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working mother in 1880.jpg"/>
          <p:cNvPicPr/>
          <p:nvPr/>
        </p:nvPicPr>
        <p:blipFill>
          <a:blip r:embed="rId2"/>
          <a:stretch/>
        </p:blipFill>
        <p:spPr>
          <a:xfrm>
            <a:off x="2743200" y="2438280"/>
            <a:ext cx="22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rly 190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4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e lives of families &amp; communities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programs provided links to U.S. Dept. of Agricultu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Content Placeholder 6" descr="kerr_modern_homemaker_1945.jpg"/>
          <p:cNvPicPr/>
          <p:nvPr/>
        </p:nvPicPr>
        <p:blipFill>
          <a:blip r:embed="rId2"/>
          <a:stretch/>
        </p:blipFill>
        <p:spPr>
          <a:xfrm>
            <a:off x="5181480" y="1143000"/>
            <a:ext cx="29368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Placeholder 4" descr="kerr_modern_homemaker_1947.jpg"/>
          <p:cNvPicPr/>
          <p:nvPr/>
        </p:nvPicPr>
        <p:blipFill>
          <a:blip r:embed="rId1"/>
          <a:srcRect l="0" t="21468" r="0" b="21468"/>
          <a:stretch/>
        </p:blipFill>
        <p:spPr>
          <a:xfrm>
            <a:off x="838080" y="3962520"/>
            <a:ext cx="3087720" cy="231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benefits centered on wise prepared mothers, responsible family member and citizens; healthy and moral household and productive and confident homemakers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Placeholder 4" descr="homemaker_index.jpg"/>
          <p:cNvPicPr/>
          <p:nvPr/>
        </p:nvPicPr>
        <p:blipFill>
          <a:blip r:embed="rId3"/>
          <a:srcRect l="0" t="23550" r="0" b="23550"/>
          <a:stretch/>
        </p:blipFill>
        <p:spPr>
          <a:xfrm>
            <a:off x="4495680" y="175248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day’s Wor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e tas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pare students for family life, work life and care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knowledge to improve quality of lif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Content Placeholder 6" descr="Working_Mother_Small.jpg"/>
          <p:cNvPicPr/>
          <p:nvPr/>
        </p:nvPicPr>
        <p:blipFill>
          <a:blip r:embed="rId2"/>
          <a:stretch/>
        </p:blipFill>
        <p:spPr>
          <a:xfrm>
            <a:off x="5257800" y="1143000"/>
            <a:ext cx="28195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6" descr=""/>
          <p:cNvPicPr/>
          <p:nvPr/>
        </p:nvPicPr>
        <p:blipFill>
          <a:blip r:embed="rId1"/>
          <a:stretch/>
        </p:blipFill>
        <p:spPr>
          <a:xfrm>
            <a:off x="115920" y="29844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90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men in the workfo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men enter wage earning careers and men’s work extended to homemaking and parenting ro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Content Placeholder 7" descr="s-WORKING-MOTHER-large.jpg"/>
          <p:cNvPicPr/>
          <p:nvPr/>
        </p:nvPicPr>
        <p:blipFill>
          <a:blip r:embed="rId2"/>
          <a:stretch/>
        </p:blipFill>
        <p:spPr>
          <a:xfrm>
            <a:off x="4952880" y="2209680"/>
            <a:ext cx="32194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higher order thinking skills and interpersonal  communication skills needed in family,  careers and communities  and academics and working prepar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service learning and other extended learning  opportunities integrated  with academics beyond the classroom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Placeholder 6" descr="dinner-couples.jpg"/>
          <p:cNvPicPr/>
          <p:nvPr/>
        </p:nvPicPr>
        <p:blipFill>
          <a:blip r:embed="rId2"/>
          <a:srcRect l="0" t="5069" r="0" b="5069"/>
          <a:stretch/>
        </p:blipFill>
        <p:spPr>
          <a:xfrm>
            <a:off x="4495680" y="17524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VOCATIONAL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AREER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me Stude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Few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Job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to 7 “Program Areas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Lieu of Academics School and Colle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School Foc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7960" y="1371600"/>
            <a:ext cx="40417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 All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 All Care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 Clusters – 81 Pathw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gns and Supports Academic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304920" y="1295280"/>
          <a:ext cx="4521240" cy="4724640"/>
        </p:xfrm>
        <a:graphic>
          <a:graphicData uri="http://schemas.openxmlformats.org/drawingml/2006/table">
            <a:tbl>
              <a:tblPr/>
              <a:tblGrid>
                <a:gridCol w="1190520"/>
                <a:gridCol w="1527120"/>
                <a:gridCol w="1803600"/>
              </a:tblGrid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 Indica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1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2004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fe Expecta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 47.3 years ol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77.8 years 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2 years ol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School Comple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6%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85%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nea.or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8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www.dese.mo.gov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s in Workfor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6% of married wo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 of women with children &lt;6 y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 of women with children 6-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www.dol.gov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per 1000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6.79 per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7.6 per 1000</a:t>
                      </a:r>
                      <a:br>
                        <a:rPr sz="1100"/>
                      </a:b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www.cdc.gov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Beyond High Scho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1.9% college de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2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www.schoolmatters.org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Rectangle 1"/>
          <p:cNvSpPr/>
          <p:nvPr/>
        </p:nvSpPr>
        <p:spPr>
          <a:xfrm>
            <a:off x="838080" y="23148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Changed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876920" y="1295280"/>
          <a:ext cx="3504960" cy="4768920"/>
        </p:xfrm>
        <a:graphic>
          <a:graphicData uri="http://schemas.openxmlformats.org/drawingml/2006/table">
            <a:tbl>
              <a:tblPr/>
              <a:tblGrid>
                <a:gridCol w="1623960"/>
                <a:gridCol w="1881000"/>
              </a:tblGrid>
              <a:tr h="68580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courses in public education have facilitated this chang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CUS FOR THE FU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efore we need to focus on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 &amp; Individual Heal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s &amp; Nutr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Fitn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e Arts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ding students towards a personal plan of stud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ership Skill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priate extra curricular activ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ing Work &amp; Fami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Fina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Management (time, household, family, etc...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Developme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s &amp; Nutr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natal Ca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e Arts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ding students towards a personal plan of stud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ership Skill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priate extra curricular activ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05:04Z</dcterms:created>
  <dc:creator>Owner</dc:creator>
  <dc:description/>
  <dc:language>en-US</dc:language>
  <cp:lastModifiedBy>Owner</cp:lastModifiedBy>
  <dcterms:modified xsi:type="dcterms:W3CDTF">2008-04-15T19:04:20Z</dcterms:modified>
  <cp:revision>35</cp:revision>
  <dc:subject/>
  <dc:title>Slide 1</dc:title>
</cp:coreProperties>
</file>